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883F3-AA4E-40AF-8677-76FFA871F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66C2F-FAB4-4966-BE1C-753B732CBC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51B92-A446-4B5A-922B-2C0971859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BE36B-F4D7-4038-A494-D99762334A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931B5-4EF7-408A-A097-70AEBC8CE6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8B5CE-03EB-446D-934F-9B2D50FEB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EB76E-87E0-4220-84FD-E70ED0F98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0B928-1DD0-42E6-AA78-4E1DE2C8E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83808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E46AB-3433-4F3A-AF79-3D53EC9F1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3FE75-E13C-43FC-A22F-321188DEE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E3F96-D3F8-4987-B8AC-AF9FD63B4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0F95B-EA3B-402F-9E00-FED636ECC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8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" name="Group 16"/>
          <p:cNvGrpSpPr/>
          <p:nvPr/>
        </p:nvGrpSpPr>
        <p:grpSpPr>
          <a:xfrm>
            <a:off x="44280" y="44280"/>
            <a:ext cx="863640" cy="847440"/>
            <a:chOff x="44280" y="44280"/>
            <a:chExt cx="863640" cy="847440"/>
          </a:xfrm>
        </p:grpSpPr>
        <p:sp>
          <p:nvSpPr>
            <p:cNvPr id="3" name="Rectangle 17"/>
            <p:cNvSpPr/>
            <p:nvPr/>
          </p:nvSpPr>
          <p:spPr>
            <a:xfrm>
              <a:off x="44280" y="44280"/>
              <a:ext cx="182520" cy="1778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" name="Rectangle 18"/>
            <p:cNvSpPr/>
            <p:nvPr/>
          </p:nvSpPr>
          <p:spPr>
            <a:xfrm>
              <a:off x="283680" y="44280"/>
              <a:ext cx="182520" cy="1778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" name="Rectangle 19"/>
            <p:cNvSpPr/>
            <p:nvPr/>
          </p:nvSpPr>
          <p:spPr>
            <a:xfrm>
              <a:off x="504720" y="44280"/>
              <a:ext cx="182880" cy="1778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" name="Rectangle 20"/>
            <p:cNvSpPr/>
            <p:nvPr/>
          </p:nvSpPr>
          <p:spPr>
            <a:xfrm>
              <a:off x="44280" y="268200"/>
              <a:ext cx="182520" cy="17640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" name="Rectangle 21"/>
            <p:cNvSpPr/>
            <p:nvPr/>
          </p:nvSpPr>
          <p:spPr>
            <a:xfrm>
              <a:off x="283680" y="268200"/>
              <a:ext cx="182520" cy="17640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Rectangle 22"/>
            <p:cNvSpPr/>
            <p:nvPr/>
          </p:nvSpPr>
          <p:spPr>
            <a:xfrm>
              <a:off x="504720" y="268200"/>
              <a:ext cx="182880" cy="17640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Rectangle 23"/>
            <p:cNvSpPr/>
            <p:nvPr/>
          </p:nvSpPr>
          <p:spPr>
            <a:xfrm>
              <a:off x="725040" y="44280"/>
              <a:ext cx="182880" cy="1778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Rectangle 24"/>
            <p:cNvSpPr/>
            <p:nvPr/>
          </p:nvSpPr>
          <p:spPr>
            <a:xfrm>
              <a:off x="283680" y="488520"/>
              <a:ext cx="182520" cy="17640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Rectangle 25"/>
            <p:cNvSpPr/>
            <p:nvPr/>
          </p:nvSpPr>
          <p:spPr>
            <a:xfrm>
              <a:off x="44280" y="488520"/>
              <a:ext cx="182520" cy="17640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" name="Rectangle 26"/>
            <p:cNvSpPr/>
            <p:nvPr/>
          </p:nvSpPr>
          <p:spPr>
            <a:xfrm>
              <a:off x="44280" y="713880"/>
              <a:ext cx="182520" cy="1778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" name="Group 27"/>
          <p:cNvGrpSpPr/>
          <p:nvPr/>
        </p:nvGrpSpPr>
        <p:grpSpPr>
          <a:xfrm>
            <a:off x="8228520" y="21960"/>
            <a:ext cx="862920" cy="847800"/>
            <a:chOff x="8228520" y="21960"/>
            <a:chExt cx="862920" cy="847800"/>
          </a:xfrm>
        </p:grpSpPr>
        <p:sp>
          <p:nvSpPr>
            <p:cNvPr id="14" name="Rectangle 28"/>
            <p:cNvSpPr/>
            <p:nvPr/>
          </p:nvSpPr>
          <p:spPr>
            <a:xfrm rot="10800000">
              <a:off x="8908920" y="683280"/>
              <a:ext cx="182520" cy="17568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Rectangle 29"/>
            <p:cNvSpPr/>
            <p:nvPr/>
          </p:nvSpPr>
          <p:spPr>
            <a:xfrm rot="10800000">
              <a:off x="8669520" y="694080"/>
              <a:ext cx="182520" cy="17568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Rectangle 30"/>
            <p:cNvSpPr/>
            <p:nvPr/>
          </p:nvSpPr>
          <p:spPr>
            <a:xfrm rot="10800000">
              <a:off x="8449200" y="694080"/>
              <a:ext cx="182520" cy="17568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Rectangle 31"/>
            <p:cNvSpPr/>
            <p:nvPr/>
          </p:nvSpPr>
          <p:spPr>
            <a:xfrm rot="10800000">
              <a:off x="8908920" y="452880"/>
              <a:ext cx="182520" cy="1742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Rectangle 32"/>
            <p:cNvSpPr/>
            <p:nvPr/>
          </p:nvSpPr>
          <p:spPr>
            <a:xfrm rot="10800000">
              <a:off x="8669520" y="463680"/>
              <a:ext cx="182520" cy="1742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Rectangle 33"/>
            <p:cNvSpPr/>
            <p:nvPr/>
          </p:nvSpPr>
          <p:spPr>
            <a:xfrm rot="10800000">
              <a:off x="8449200" y="463680"/>
              <a:ext cx="182520" cy="1742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" name="Rectangle 34"/>
            <p:cNvSpPr/>
            <p:nvPr/>
          </p:nvSpPr>
          <p:spPr>
            <a:xfrm rot="10800000">
              <a:off x="8228520" y="694080"/>
              <a:ext cx="182520" cy="17568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" name="Rectangle 35"/>
            <p:cNvSpPr/>
            <p:nvPr/>
          </p:nvSpPr>
          <p:spPr>
            <a:xfrm rot="10800000">
              <a:off x="8669520" y="234720"/>
              <a:ext cx="182520" cy="1742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" name="Rectangle 36"/>
            <p:cNvSpPr/>
            <p:nvPr/>
          </p:nvSpPr>
          <p:spPr>
            <a:xfrm rot="10800000">
              <a:off x="8908920" y="234720"/>
              <a:ext cx="182520" cy="1742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" name="Rectangle 37"/>
            <p:cNvSpPr/>
            <p:nvPr/>
          </p:nvSpPr>
          <p:spPr>
            <a:xfrm rot="10800000">
              <a:off x="8908920" y="21600"/>
              <a:ext cx="182520" cy="17568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ftr" idx="1"/>
          </p:nvPr>
        </p:nvSpPr>
        <p:spPr>
          <a:xfrm>
            <a:off x="7162560" y="6567120"/>
            <a:ext cx="1523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Company 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sldNum" idx="2"/>
          </p:nvPr>
        </p:nvSpPr>
        <p:spPr>
          <a:xfrm>
            <a:off x="475920" y="6565680"/>
            <a:ext cx="6094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a834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14C6-4551-48CE-B65C-0460F4B69CE8}" type="slidenum">
              <a:rPr b="0" lang="en-US" sz="1000" spc="-1" strike="noStrike">
                <a:solidFill>
                  <a:srgbClr val="50a83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ge.edu.ru/ru/main/legal-documents/index.php?id_4=17890&amp;from_4=1" TargetMode="External"/><Relationship Id="rId2" Type="http://schemas.openxmlformats.org/officeDocument/2006/relationships/hyperlink" Target="http://ege.edu.ru/ru/main/brief-glossary/" TargetMode="External"/><Relationship Id="rId3" Type="http://schemas.openxmlformats.org/officeDocument/2006/relationships/hyperlink" Target="http://ege.edu.ru/ru/main/brief-glossary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ge.edu.ru/ru/main/schedule/" TargetMode="External"/><Relationship Id="rId2" Type="http://schemas.openxmlformats.org/officeDocument/2006/relationships/hyperlink" Target="http://ege.edu.ru/ru/main/legal-documents/index.php?id_4=17622&amp;from_4=3" TargetMode="External"/><Relationship Id="rId3" Type="http://schemas.openxmlformats.org/officeDocument/2006/relationships/hyperlink" Target="http://ege.edu.ru/ru/main/schedule/" TargetMode="External"/><Relationship Id="rId4" Type="http://schemas.openxmlformats.org/officeDocument/2006/relationships/hyperlink" Target="http://ege.edu.ru/ru/main/schedule/" TargetMode="External"/><Relationship Id="rId5" Type="http://schemas.openxmlformats.org/officeDocument/2006/relationships/hyperlink" Target="http://ege.edu.ru/ru/main/schedule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ge.edu.ru/ru/main/legal-documents/index.php?id_4=17622&amp;from_4=3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1.ege.edu.ru/content/view/572/115/" TargetMode="External"/><Relationship Id="rId2" Type="http://schemas.openxmlformats.org/officeDocument/2006/relationships/hyperlink" Target="http://www1.ege.edu.ru/content/view/697/274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ge.edu.ru/ru/main/legal-documents/index.php?id_4=17622&amp;from_4=3" TargetMode="External"/><Relationship Id="rId2" Type="http://schemas.openxmlformats.org/officeDocument/2006/relationships/hyperlink" Target="http://ege.edu.ru/ru/classes-11/participant/" TargetMode="Externa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ge.edu.ru/ru/main/brief-glossary/" TargetMode="Externa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s://edu.tatar.ru/" TargetMode="External"/><Relationship Id="rId5" Type="http://schemas.openxmlformats.org/officeDocument/2006/relationships/hyperlink" Target="https://edu.tatar.ru/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ge.edu.ru/ru/classes-11/egerus/" TargetMode="External"/><Relationship Id="rId2" Type="http://schemas.openxmlformats.org/officeDocument/2006/relationships/hyperlink" Target="http://ege.edu.ru/ru/classes-11/egemath/" TargetMode="External"/><Relationship Id="rId3" Type="http://schemas.openxmlformats.org/officeDocument/2006/relationships/hyperlink" Target="http://ege.edu.ru/ru/main/legal-documents/index.php?id_4=17622&amp;from_4=3" TargetMode="External"/><Relationship Id="rId4" Type="http://schemas.openxmlformats.org/officeDocument/2006/relationships/hyperlink" Target="http://ege.edu.ru/ru/universities-colleges/perexam/" TargetMode="External"/><Relationship Id="rId5" Type="http://schemas.openxmlformats.org/officeDocument/2006/relationships/hyperlink" Target="http://ege.edu.ru/ru/universities-colleges/perexam_suz/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ge.edu.ru/ru/main/brief-glossary/" TargetMode="External"/><Relationship Id="rId2" Type="http://schemas.openxmlformats.org/officeDocument/2006/relationships/hyperlink" Target="http://ege.edu.ru/ru/main/main_item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539640" y="162864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 проведении государственной (итоговой) аттестации выпускников  11-х классов в 2013 году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-4648320" y="5486400"/>
            <a:ext cx="1686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132000" y="43657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Наталья Ивановна Уварова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заместитель директора по учебной работе МБОУ «Гимназия № 3» Вахитовского района г.Казани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7" name="Picture 5" descr="коллаж2"/>
          <p:cNvPicPr/>
          <p:nvPr/>
        </p:nvPicPr>
        <p:blipFill>
          <a:blip r:embed="rId1"/>
          <a:stretch/>
        </p:blipFill>
        <p:spPr>
          <a:xfrm>
            <a:off x="250920" y="5013360"/>
            <a:ext cx="2743200" cy="1324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0" y="0"/>
            <a:ext cx="9144000" cy="1098720"/>
          </a:xfrm>
          <a:prstGeom prst="rect">
            <a:avLst/>
          </a:prstGeom>
          <a:gradFill rotWithShape="0">
            <a:gsLst>
              <a:gs pos="0">
                <a:srgbClr val="2045ae"/>
              </a:gs>
              <a:gs pos="100000">
                <a:srgbClr val="0f205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9" name="Рисунок 6" descr="of_sborka1aug.png"/>
          <p:cNvPicPr/>
          <p:nvPr/>
        </p:nvPicPr>
        <p:blipFill>
          <a:blip r:embed="rId2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менение заявления на ЕГ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076040"/>
            <a:ext cx="8435880" cy="53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2. </a:t>
            </a:r>
            <a:r>
              <a:rPr b="0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Изменение предмета по выбору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По истечении сроков регистрации на ЕГЭ</a:t>
            </a:r>
            <a:r>
              <a:rPr b="0" lang="ru-RU" sz="2400" spc="-1" strike="noStrike" u="sng">
                <a:solidFill>
                  <a:srgbClr val="3dc5c5"/>
                </a:solidFill>
                <a:uFillTx/>
                <a:latin typeface="Arial"/>
                <a:hlinkClick r:id="rId1"/>
              </a:rPr>
              <a:t>, изменение указанных в заявлении экзаменов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 по общеобразовательным предметам возможно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только при наличии у участника ЕГЭ уважительных причин (болезни или иных обстоятельств, подтвержденных документально)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В этом случае участник ЕГЭ подает заявление в </a:t>
            </a:r>
            <a:r>
              <a:rPr b="0" lang="ru-RU" sz="2400" spc="-1" strike="noStrike" u="sng">
                <a:solidFill>
                  <a:srgbClr val="3dc5c5"/>
                </a:solidFill>
                <a:uFillTx/>
                <a:latin typeface="Arial"/>
                <a:hlinkClick r:id="rId2"/>
              </a:rPr>
              <a:t>ГЭК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 субъекта Российской Федерации </a:t>
            </a:r>
            <a:r>
              <a:rPr b="0" lang="ru-RU" sz="2400" spc="-1" strike="noStrike">
                <a:solidFill>
                  <a:srgbClr val="3dc5c5"/>
                </a:solidFill>
                <a:latin typeface="Arial"/>
              </a:rPr>
              <a:t>(МОиН РТ)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(или </a:t>
            </a:r>
            <a:r>
              <a:rPr b="0" lang="ru-RU" sz="2400" spc="-1" strike="noStrike" u="sng">
                <a:solidFill>
                  <a:srgbClr val="3dc5c5"/>
                </a:solidFill>
                <a:uFillTx/>
                <a:latin typeface="Arial"/>
                <a:hlinkClick r:id="rId3"/>
              </a:rPr>
              <a:t>ФЭК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dc5c5"/>
                </a:solidFill>
                <a:latin typeface="Arial"/>
              </a:rPr>
              <a:t>– МОиН РФ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) с указанием измененного перечня общеобразовательных предметов, по которым он планирует сдавать ЕГЭ, и причины изменения заявленного ранее перечня.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Указанное заявление подается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не позднее чем за месяц до начала экзаменов (27 апреля)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рмация для выпускник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076040"/>
            <a:ext cx="864216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В любой момент выпускник имеет право отказаться от сдачи 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предметов по выбору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, при этом не нужно оформлять отказ документально. Можно просто не приходить на экзамен, который Вы решили не сдавать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(кроме обязательных русского языка и математики)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, даже если в своем заявлении Вы вносили его в список предметов.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В случае Вашей неявки на экзамен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ообщить зам. директора по УР Н.И.Уваровой.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рмация для выпускник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В случае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тсутствия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выпускника на экзамене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о русскому языку и математике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по уважительной причине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 день экзамена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необходимо представить оправдательный документ (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правку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и т.п.)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 гимназию </a:t>
            </a:r>
            <a:r>
              <a:rPr b="1" lang="ru-RU" sz="3200" spc="-1" strike="noStrike">
                <a:solidFill>
                  <a:srgbClr val="0d75f3"/>
                </a:solidFill>
                <a:latin typeface="Arial"/>
              </a:rPr>
              <a:t>(зам.директора по УР  Н.И.Уваровой)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роки ЕГЭ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076400"/>
            <a:ext cx="90360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новные сроки сдачи ЕГЭ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- </a:t>
            </a: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1"/>
              </a:rPr>
              <a:t>май-июнь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. 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2"/>
              </a:rPr>
              <a:t>Некоторые категории выпускников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 имеют право сдать ЕГЭ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досрочно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(</a:t>
            </a: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3"/>
              </a:rPr>
              <a:t>в апреле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) и в дополнительные сроки в </a:t>
            </a: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4"/>
              </a:rPr>
              <a:t>июле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Единое для всех </a:t>
            </a: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5"/>
              </a:rPr>
              <a:t>расписание ЕГЭ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   ежегодно устанавливаются приказом Минобрнауки России.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срочный этап сдачи ЕГЭ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Нижний колонтитул 2"/>
          <p:cNvSpPr/>
          <p:nvPr/>
        </p:nvSpPr>
        <p:spPr>
          <a:xfrm>
            <a:off x="7162920" y="6567480"/>
            <a:ext cx="1523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Company  Logo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-324000" y="907920"/>
            <a:ext cx="921708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еют право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пускники вечерних (сменных) школ, призванные в ряды Российской Армии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Выезжающие </a:t>
            </a:r>
            <a:r>
              <a:rPr b="1" lang="ru-RU" sz="1800" spc="-1" strike="noStrike" u="sng">
                <a:solidFill>
                  <a:srgbClr val="2045ae"/>
                </a:solidFill>
                <a:uFillTx/>
                <a:latin typeface="Times New Roman"/>
                <a:ea typeface="Times New Roman"/>
              </a:rPr>
              <a:t>на российские или международные</a:t>
            </a:r>
            <a:r>
              <a:rPr b="0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 спортивные соревнования, конкурсы, смотры, олимпиады и тренировочные сборы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- Выезжающие за рубеж на постоянное место жительства или для продолжения обучения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- Направляемые по медицинским показаниям в лечебно-профилактические и иные учреждения для проведения лечебно-оздоровительных и реабилитационных мероприятий в период проведения государственной (итоговой) аттестации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250920" y="3213000"/>
            <a:ext cx="864216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оки (в проекте)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апреля (суббота) – русский язык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3 апреля (вторник) – математика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6 апреля (пятница) – иностранный язык, геграфия, химия, история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 апреля (понедельник) – информатика, биология, обществознание, литература, физика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8" name="Рисунок 6" descr="of_sborka1aug.png"/>
          <p:cNvPicPr/>
          <p:nvPr/>
        </p:nvPicPr>
        <p:blipFill>
          <a:blip r:embed="rId1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списание ЕГЭ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(Проект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7604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27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мая (понедельник)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– русский язык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30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мая (четверг)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– информатика и информационно-коммуникационные</a:t>
            </a:r>
            <a:br>
              <a:rPr sz="2400"/>
            </a:b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технологии (ИКТ), биология, история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3 июня (понедельник)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– математика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6 июня (четверг)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– иностранные языки (английский, французский, немецкий, испанский), физика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10 июня (понедельник)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– обществознание, химия;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13 июня (четверг)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– география, литература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Информация  о сроках проведения ЕГЭ утверждается МОиН РФ, регистрируется в Минюсте до 1 апреля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оки пересдачи ЕГ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1"/>
          <p:cNvSpPr/>
          <p:nvPr/>
        </p:nvSpPr>
        <p:spPr>
          <a:xfrm>
            <a:off x="468360" y="1052640"/>
            <a:ext cx="867564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Для участников ЕГЭ - выпускников 2013 года, получивших на государственной (итоговой) аттестации в форме ЕГЭ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дин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неудовлетворительный</a:t>
            </a:r>
            <a:r>
              <a:rPr b="0" lang="ru-RU" sz="3200" spc="-1" strike="noStrike" u="sng">
                <a:solidFill>
                  <a:srgbClr val="2045ae"/>
                </a:solidFill>
                <a:uFillTx/>
                <a:latin typeface="Times New Roman"/>
                <a:ea typeface="Times New Roman"/>
              </a:rPr>
              <a:t> результат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по русскому языку</a:t>
            </a:r>
            <a:r>
              <a:rPr b="0" lang="ru-RU" sz="3200" spc="-1" strike="noStrike" u="sng">
                <a:solidFill>
                  <a:srgbClr val="2045ae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2045ae"/>
                </a:solidFill>
                <a:uFillTx/>
                <a:latin typeface="Times New Roman"/>
                <a:ea typeface="Times New Roman"/>
              </a:rPr>
              <a:t>или</a:t>
            </a:r>
            <a:r>
              <a:rPr b="0" lang="ru-RU" sz="3200" spc="-1" strike="noStrike" u="sng">
                <a:solidFill>
                  <a:srgbClr val="2045ae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атематике, </a:t>
            </a:r>
            <a:r>
              <a:rPr b="0" lang="ru-RU" sz="3200" spc="-1" strike="noStrike">
                <a:solidFill>
                  <a:srgbClr val="0d75f3"/>
                </a:solidFill>
                <a:latin typeface="Times New Roman"/>
                <a:ea typeface="Times New Roman"/>
              </a:rPr>
              <a:t>а также</a:t>
            </a:r>
            <a:r>
              <a:rPr b="0" lang="ru-RU" sz="3200" spc="-1" strike="noStrike" u="sng">
                <a:solidFill>
                  <a:srgbClr val="0d75f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не сдавшие ЕГЭ по уважительной причине</a:t>
            </a:r>
            <a:r>
              <a:rPr b="0" lang="ru-RU" sz="3200" spc="-1" strike="noStrike" u="sng">
                <a:solidFill>
                  <a:srgbClr val="0d75f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d75f3"/>
                </a:solidFill>
                <a:latin typeface="Times New Roman"/>
                <a:ea typeface="Times New Roman"/>
              </a:rPr>
              <a:t>предусмотрены </a:t>
            </a:r>
            <a:r>
              <a:rPr b="1" lang="ru-RU" sz="3200" spc="-1" strike="noStrike" u="sng">
                <a:solidFill>
                  <a:srgbClr val="0d75f3"/>
                </a:solidFill>
                <a:uFillTx/>
                <a:latin typeface="Times New Roman"/>
                <a:ea typeface="Times New Roman"/>
              </a:rPr>
              <a:t>резервные дни</a:t>
            </a:r>
            <a:r>
              <a:rPr b="0" lang="ru-RU" sz="3200" spc="-1" strike="noStrike">
                <a:solidFill>
                  <a:srgbClr val="0d75f3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5 июня (суббота) – информатика и информационно-коммуникационные технологии (ИКТ), биология, история, физика, иностранные языки (английский, французский, немецкий, испанский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7 июня (понедельник) – обществознание, география, литература, химия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8 июня (вторник) – русский язык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9 июня (среда) – математика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3" name="Группа 4"/>
          <p:cNvGrpSpPr/>
          <p:nvPr/>
        </p:nvGrpSpPr>
        <p:grpSpPr>
          <a:xfrm>
            <a:off x="0" y="6242040"/>
            <a:ext cx="9144000" cy="615960"/>
            <a:chOff x="0" y="6242040"/>
            <a:chExt cx="9144000" cy="615960"/>
          </a:xfrm>
        </p:grpSpPr>
        <p:pic>
          <p:nvPicPr>
            <p:cNvPr id="104" name="Picture 13" descr=""/>
            <p:cNvPicPr/>
            <p:nvPr/>
          </p:nvPicPr>
          <p:blipFill>
            <a:blip r:embed="rId1"/>
            <a:stretch/>
          </p:blipFill>
          <p:spPr>
            <a:xfrm>
              <a:off x="0" y="6242040"/>
              <a:ext cx="91440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8" descr="Герб Республики Татарстан"/>
            <p:cNvPicPr/>
            <p:nvPr/>
          </p:nvPicPr>
          <p:blipFill>
            <a:blip r:embed="rId2"/>
            <a:stretch/>
          </p:blipFill>
          <p:spPr>
            <a:xfrm>
              <a:off x="8546760" y="6266160"/>
              <a:ext cx="572760" cy="57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Рисунок 6" descr="of_sborka1aug.png"/>
          <p:cNvPicPr/>
          <p:nvPr/>
        </p:nvPicPr>
        <p:blipFill>
          <a:blip r:embed="rId3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В случае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овпадения сроков проведения ЕГЭ по отдельным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бщеобразовательным предметам</a:t>
            </a: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 участники ЕГЭ допускаются к сдаче ЕГЭ по соответствующим общеобразовательным предметам в дополнительные сроки – резервные дни (см. предыдущий слайд). 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045ae"/>
                </a:solidFill>
                <a:uFillTx/>
                <a:latin typeface="Arial"/>
              </a:rPr>
              <a:t>Например.</a:t>
            </a: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 Экзамены по выбору: биология и история. 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30 мая – ЕГЭ по биологии, 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15 июня (резервный день) – история.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рядок ГИА для обучающихся с ограниченными возможностями здоровь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076400"/>
            <a:ext cx="896472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Может проводится: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на ППЭ (в общей или отдельной аудитории)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на дому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Продолжительность ГВЭ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увеличивается на 1,5 часа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Расписание ГВЭ – 2013: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27 мая (понедельник) - русский язык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3 июня (понедельник) - математика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Для выпускников, пропустивших ГВЭ по уважительным причинам: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8 июня (вторник) - русский язык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9 июня (среда) - математика.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24000" y="133200"/>
            <a:ext cx="85377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рядок проведения ЕГЭ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 2013 году</a:t>
            </a:r>
            <a:br>
              <a:rPr sz="22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39200" y="981000"/>
            <a:ext cx="8394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(приказ Минобрнауки России от 11 октября 2011 ода № 2451 «Об утверждении порядка проведения единого государственного экзамена», зарегистрирован в Минюсте РФ 31.01.2012 № 23065)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810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ЛАМЕНТИРУЕТ: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81000" algn="just">
              <a:lnSpc>
                <a:spcPct val="100000"/>
              </a:lnSpc>
              <a:spcBef>
                <a:spcPts val="451"/>
              </a:spcBef>
              <a:buClr>
                <a:srgbClr val="3dc5c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последствия нарушений участниками ЕГЭ и лицами, привлекаемыми к его проведению, нормы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 запрете</a:t>
            </a:r>
            <a:r>
              <a:rPr b="1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 использования в пунктах проведения ЕГЭ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редств связи и электронно-вычислительной техники </a:t>
            </a:r>
            <a:r>
              <a:rPr b="1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(телефон и калькулятор)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в случае выявления нарушения следует удаление из пункта; решение вопроса о допуске участника ЕГЭ к повторной сдаче экзамена принимается экзаменационной комиссией по результатам проверки факта удаления);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81000" algn="just">
              <a:lnSpc>
                <a:spcPct val="100000"/>
              </a:lnSpc>
              <a:spcBef>
                <a:spcPts val="451"/>
              </a:spcBef>
              <a:buClr>
                <a:srgbClr val="3dc5c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присутствие в пунктах проведения ЕГЭ 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рассмотрении апелляций </a:t>
            </a:r>
            <a:r>
              <a:rPr b="1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граждан, аккредитованных в качестве общественных наблюдателей;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81000" algn="just">
              <a:lnSpc>
                <a:spcPct val="100000"/>
              </a:lnSpc>
              <a:spcBef>
                <a:spcPts val="451"/>
              </a:spcBef>
              <a:buClr>
                <a:srgbClr val="3dc5c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усилени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ственности</a:t>
            </a:r>
            <a:r>
              <a:rPr b="1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 лиц, привлекаемых к проведению ЕГЭ, и участников ЕГЭ за разглашение содержащихся в КИМ сведений.</a:t>
            </a:r>
            <a:br>
              <a:rPr sz="1800"/>
            </a:br>
            <a:r>
              <a:rPr b="1" lang="en-US" sz="1800" spc="-1" strike="noStrike">
                <a:solidFill>
                  <a:srgbClr val="2045ae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</p:txBody>
      </p:sp>
      <p:grpSp>
        <p:nvGrpSpPr>
          <p:cNvPr id="113" name="Группа 4"/>
          <p:cNvGrpSpPr/>
          <p:nvPr/>
        </p:nvGrpSpPr>
        <p:grpSpPr>
          <a:xfrm>
            <a:off x="0" y="6242040"/>
            <a:ext cx="9144000" cy="615960"/>
            <a:chOff x="0" y="6242040"/>
            <a:chExt cx="9144000" cy="615960"/>
          </a:xfrm>
        </p:grpSpPr>
        <p:pic>
          <p:nvPicPr>
            <p:cNvPr id="114" name="Picture 13" descr=""/>
            <p:cNvPicPr/>
            <p:nvPr/>
          </p:nvPicPr>
          <p:blipFill>
            <a:blip r:embed="rId1"/>
            <a:stretch/>
          </p:blipFill>
          <p:spPr>
            <a:xfrm>
              <a:off x="0" y="6242040"/>
              <a:ext cx="91440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8" descr="Герб Республики Татарстан"/>
            <p:cNvPicPr/>
            <p:nvPr/>
          </p:nvPicPr>
          <p:blipFill>
            <a:blip r:embed="rId2"/>
            <a:stretch/>
          </p:blipFill>
          <p:spPr>
            <a:xfrm>
              <a:off x="8546760" y="6266160"/>
              <a:ext cx="572760" cy="57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Рисунок 6" descr="of_sborka1aug.png"/>
          <p:cNvPicPr/>
          <p:nvPr/>
        </p:nvPicPr>
        <p:blipFill>
          <a:blip r:embed="rId3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рмативные документы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Положение о формах и порядке проведения государственной (итоговой) аттестации обучающихся, освоивших основные общеобразовательные программы среднего (полного) общего образования, утверждённым приказом Министерства образования и науки Российской Федерации от 28 ноября 2008 г. № 362;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Порядок проведения единого государственного экзамена, утверждённым приказом Министерства образования и науки Российской Федерации от 11 октября 2011 г. № 2451;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Порядок проведения государственного выпускного экзамена, утвержденным приказом МОиН РФ от 3.05.2009г.);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Распоряжение Рособрнадзора от 29.08.2012г № 3499-1 о «Об установлении минимального количества баллов единого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государственного экзамена по общеобразовательным предметам»;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Приказ Минобрнауки России от 22 января 2013 г. № 24 г. Москва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Об утверждении сроков, единого расписания, формы и продолжительности проведения государственного выпускного экзамена по русскому языку и математике в 2013 году;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Приказ Министерства образования и науки Российской Федерации (Минобрнауки России) от 25 февраля 2010 г. N 140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"Об утверждении Положения о медалях "За особые успехи в учении""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Группа 4"/>
          <p:cNvGrpSpPr/>
          <p:nvPr/>
        </p:nvGrpSpPr>
        <p:grpSpPr>
          <a:xfrm>
            <a:off x="0" y="6242040"/>
            <a:ext cx="9144000" cy="615960"/>
            <a:chOff x="0" y="6242040"/>
            <a:chExt cx="9144000" cy="615960"/>
          </a:xfrm>
        </p:grpSpPr>
        <p:pic>
          <p:nvPicPr>
            <p:cNvPr id="118" name="Picture 13" descr=""/>
            <p:cNvPicPr/>
            <p:nvPr/>
          </p:nvPicPr>
          <p:blipFill>
            <a:blip r:embed="rId1"/>
            <a:stretch/>
          </p:blipFill>
          <p:spPr>
            <a:xfrm>
              <a:off x="0" y="6242040"/>
              <a:ext cx="91440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18" descr="Герб Республики Татарстан"/>
            <p:cNvPicPr/>
            <p:nvPr/>
          </p:nvPicPr>
          <p:blipFill>
            <a:blip r:embed="rId2"/>
            <a:stretch/>
          </p:blipFill>
          <p:spPr>
            <a:xfrm>
              <a:off x="8546760" y="6266160"/>
              <a:ext cx="572760" cy="57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Стрелка вниз 5"/>
          <p:cNvSpPr/>
          <p:nvPr/>
        </p:nvSpPr>
        <p:spPr>
          <a:xfrm>
            <a:off x="4319640" y="996840"/>
            <a:ext cx="57636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a0aff"/>
          </a:solidFill>
          <a:ln w="25560">
            <a:solidFill>
              <a:srgbClr val="1430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50920" y="1484280"/>
            <a:ext cx="8713800" cy="4753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едеральный закон №104 от 3.06.2009 г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О внесении изменений в Кодекс РФ об административных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онарушениях…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нарушение законодательства в области образования…» -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тупил в действие с 1 декабря 2009г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.19.30 п.4 КоАП РФ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…Нарушение … установленного порядка проведения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осударственной (итоговой) аттестации влечет наложение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дминистративного штрафа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d75f3"/>
                </a:solidFill>
                <a:latin typeface="Arial"/>
                <a:ea typeface="Times New Roman"/>
              </a:rPr>
              <a:t>на граждан – от 3 тысяч до 5 тысяч рублей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75f3"/>
                </a:solidFill>
                <a:latin typeface="Arial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d75f3"/>
                </a:solidFill>
                <a:latin typeface="Arial"/>
                <a:ea typeface="Times New Roman"/>
              </a:rPr>
              <a:t>на должностных лиц – от 20 тысяч до 40 тысяч рублей…»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2" name="Рисунок 6" descr="of_sborka1aug.png"/>
          <p:cNvPicPr/>
          <p:nvPr/>
        </p:nvPicPr>
        <p:blipFill>
          <a:blip r:embed="rId3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6"/>
          <p:cNvSpPr/>
          <p:nvPr/>
        </p:nvSpPr>
        <p:spPr>
          <a:xfrm flipV="1" rot="10800000">
            <a:off x="1369800" y="-11520"/>
            <a:ext cx="66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ственность за нарушения установленного порядка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1"/>
          <p:cNvSpPr/>
          <p:nvPr/>
        </p:nvSpPr>
        <p:spPr>
          <a:xfrm>
            <a:off x="7162920" y="6567480"/>
            <a:ext cx="1523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Прямоугольник 3"/>
          <p:cNvSpPr/>
          <p:nvPr/>
        </p:nvSpPr>
        <p:spPr>
          <a:xfrm flipV="1" rot="10800000">
            <a:off x="899640" y="215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истема контроля на ЕГЭ - 2012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Содержимое 4"/>
          <p:cNvSpPr/>
          <p:nvPr/>
        </p:nvSpPr>
        <p:spPr>
          <a:xfrm>
            <a:off x="395280" y="1341360"/>
            <a:ext cx="8442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>
              <a:lnSpc>
                <a:spcPts val="30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2080" indent="-262080" algn="just">
              <a:lnSpc>
                <a:spcPts val="3098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Arial"/>
              </a:rPr>
              <a:t>Привлечение общественных наблюдателей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2080" indent="-262080" algn="just">
              <a:lnSpc>
                <a:spcPts val="3098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Arial"/>
                <a:ea typeface="Arial"/>
              </a:rPr>
              <a:t>Надзор работников прокуратуры и МВД в ППЭ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2080" indent="-262080" algn="just">
              <a:lnSpc>
                <a:spcPts val="3098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33"/>
                </a:solidFill>
                <a:latin typeface="Arial"/>
                <a:ea typeface="Arial"/>
              </a:rPr>
              <a:t>Использование</a:t>
            </a:r>
            <a:r>
              <a:rPr b="0" lang="ru-RU" sz="2400" spc="-1" strike="noStrike">
                <a:solidFill>
                  <a:srgbClr val="000033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33"/>
                </a:solidFill>
                <a:latin typeface="Arial"/>
              </a:rPr>
              <a:t>технических средств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2080" indent="-262080" algn="just">
              <a:lnSpc>
                <a:spcPts val="3098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Arial"/>
              </a:rPr>
              <a:t>Выезд на ППЭ уполномоченных представителей Государственной экзаменационной комиссии Республики Татарстан для осуществления проверки соблюдения установленного порядка проведения ЕГЭ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2080" indent="-262080" algn="just">
              <a:lnSpc>
                <a:spcPts val="3098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7" name="Рисунок 6" descr="of_sborka1aug.png"/>
          <p:cNvPicPr/>
          <p:nvPr/>
        </p:nvPicPr>
        <p:blipFill>
          <a:blip r:embed="rId1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  <p:grpSp>
        <p:nvGrpSpPr>
          <p:cNvPr id="128" name="Группа 4"/>
          <p:cNvGrpSpPr/>
          <p:nvPr/>
        </p:nvGrpSpPr>
        <p:grpSpPr>
          <a:xfrm>
            <a:off x="-23760" y="6267600"/>
            <a:ext cx="9144000" cy="615960"/>
            <a:chOff x="-23760" y="6267600"/>
            <a:chExt cx="9144000" cy="615960"/>
          </a:xfrm>
        </p:grpSpPr>
        <p:pic>
          <p:nvPicPr>
            <p:cNvPr id="129" name="Picture 13" descr=""/>
            <p:cNvPicPr/>
            <p:nvPr/>
          </p:nvPicPr>
          <p:blipFill>
            <a:blip r:embed="rId2"/>
            <a:stretch/>
          </p:blipFill>
          <p:spPr>
            <a:xfrm>
              <a:off x="-23760" y="6267600"/>
              <a:ext cx="91440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8" descr="Герб Республики Татарстан"/>
            <p:cNvPicPr/>
            <p:nvPr/>
          </p:nvPicPr>
          <p:blipFill>
            <a:blip r:embed="rId3"/>
            <a:stretch/>
          </p:blipFill>
          <p:spPr>
            <a:xfrm>
              <a:off x="8523000" y="6291720"/>
              <a:ext cx="572760" cy="57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015920"/>
          <a:ext cx="8559720" cy="4789440"/>
        </p:xfrm>
        <a:graphic>
          <a:graphicData uri="http://schemas.openxmlformats.org/drawingml/2006/table">
            <a:tbl>
              <a:tblPr/>
              <a:tblGrid>
                <a:gridCol w="4136760"/>
                <a:gridCol w="4422960"/>
              </a:tblGrid>
              <a:tr h="928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алены за использование средств связи 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4 выпускника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ff"/>
                    </a:solidFill>
                  </a:tcPr>
                </a:tc>
              </a:tr>
              <a:tr h="1147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Возбуждено административных дел в отношении участников ЕГЭ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 в том числе в отношении 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3 выпускников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e3"/>
                    </a:solidFill>
                  </a:tcPr>
                </a:tc>
              </a:tr>
              <a:tr h="1838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овместно с МВД по РТ выявлена схема фальсификации результатов ЕГЭ в Апастовском районе. По решению ГЭК РТ аннулированы 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 работы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2"/>
                    </a:solidFill>
                  </a:tcPr>
                </a:tc>
              </a:tr>
              <a:tr h="874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Аннулированы результаты за размещение КИМ в сети Интернет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 работ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Азнакаевский, Алькеевский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e3"/>
                    </a:solidFill>
                  </a:tcPr>
                </a:tc>
              </a:tr>
            </a:tbl>
          </a:graphicData>
        </a:graphic>
      </p:graphicFrame>
      <p:sp>
        <p:nvSpPr>
          <p:cNvPr id="132" name="TextBox 3"/>
          <p:cNvSpPr/>
          <p:nvPr/>
        </p:nvSpPr>
        <p:spPr>
          <a:xfrm>
            <a:off x="227160" y="-27000"/>
            <a:ext cx="82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ушения  при проведении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иного государственного экзамена в 2011 году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Номер слайда 1"/>
          <p:cNvSpPr/>
          <p:nvPr/>
        </p:nvSpPr>
        <p:spPr>
          <a:xfrm>
            <a:off x="476280" y="6566040"/>
            <a:ext cx="6094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27AB-B04E-47A0-A7AD-A3FA767CA7A9}" type="slidenum">
              <a:rPr b="0" lang="en-US" sz="1000" spc="-1" strike="noStrike">
                <a:solidFill>
                  <a:srgbClr val="50a83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4" name="Группа 4"/>
          <p:cNvGrpSpPr/>
          <p:nvPr/>
        </p:nvGrpSpPr>
        <p:grpSpPr>
          <a:xfrm>
            <a:off x="-23760" y="6267600"/>
            <a:ext cx="9144000" cy="615960"/>
            <a:chOff x="-23760" y="6267600"/>
            <a:chExt cx="9144000" cy="615960"/>
          </a:xfrm>
        </p:grpSpPr>
        <p:pic>
          <p:nvPicPr>
            <p:cNvPr id="135" name="Picture 13" descr=""/>
            <p:cNvPicPr/>
            <p:nvPr/>
          </p:nvPicPr>
          <p:blipFill>
            <a:blip r:embed="rId1"/>
            <a:stretch/>
          </p:blipFill>
          <p:spPr>
            <a:xfrm>
              <a:off x="-23760" y="6267600"/>
              <a:ext cx="91440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8" descr="Герб Республики Татарстан"/>
            <p:cNvPicPr/>
            <p:nvPr/>
          </p:nvPicPr>
          <p:blipFill>
            <a:blip r:embed="rId2"/>
            <a:stretch/>
          </p:blipFill>
          <p:spPr>
            <a:xfrm>
              <a:off x="8523000" y="6291720"/>
              <a:ext cx="572760" cy="57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" name="Рисунок 6" descr="of_sborka1aug.png"/>
          <p:cNvPicPr/>
          <p:nvPr/>
        </p:nvPicPr>
        <p:blipFill>
          <a:blip r:embed="rId3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3915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ъяснения по поводу использования калькуляторов на ЕГЭ по общеобразовательным предметам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076400"/>
            <a:ext cx="90360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Во время выполнения экзаменационных работ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физике, химии и географии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разрешается пользоваться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епрограммируемыми калькуляторами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. Калькуляторы 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должны обеспечивать арифметические вычисления (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сложение, вычитание, умножение, деление, извлечение корня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) и вычисление тригонометрических функций (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sin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os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tg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, ctg,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arcsin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arcos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arctg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).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Таким требованиям отвечают инженерные (или научные) непрограммируемые калькуляторы. Они обладают возможностями вычисления всех элементарных функций, естественного отображения чисел и редактирования введенных выражений.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Не допускается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 использование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участниками ЕГЭ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программируемых инженерных калькуляторов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у которых имеется указание на соответствующие функции в названии марки калькулятора либо на панели присутствует кнопка, отвечающая за функции программирования.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ъяснения по поводу использования калькуляторов на ЕГЭ по общеобразовательным предметам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Arial"/>
              </a:rPr>
              <a:t>Конструктивные особенности калькуляторов должны исключать возможность получения экзаменующимися дополнительной, не предусмотренной условиями проведения экзамена, информации: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Arial"/>
              </a:rPr>
              <a:t>калькуляторы не должны предоставлять возможность сохранения в своей памяти баз данных экзаменационных заданий и их решений, а также любой другой информации, знание которой прямо или косвенно проверяется на экзамене; 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Arial"/>
              </a:rPr>
              <a:t>калькуляторы не должны предоставлять экзаменующемуся возможности получения извне какой бы то ни было информации во время сдачи экзамена. Их коммуникационные возможности не должны допускать беспроводного обмена информацией с любыми внешними источниками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НИМАНИЕ! </a:t>
            </a:r>
            <a:r>
              <a:rPr b="1" lang="ru-RU" sz="1800" spc="-1" strike="noStrike">
                <a:solidFill>
                  <a:srgbClr val="2045ae"/>
                </a:solidFill>
                <a:latin typeface="Arial"/>
              </a:rPr>
              <a:t>Всё приносимое оборудование передается организатору в аудитории для контроля. В случае несоответствия принесенного экзаменующимся оборудования вышеуказанным требованиям организатор имеет право не выдавать это оборудование для использования в процессе сдачи экзамена, а возвратить его только после завершения экзамена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087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азрешено пользоваться во время ЕГЭ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Математика - линейка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правочные материалы, которые можно использовать во время экзамена, выдаются каждому участнику ЕГЭ вместе с текстом его экзаменационной работы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Физика - линейка и непрограммируемый калькулятор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роме того, каждый КИМ содержит справочные данные, которые могут понадобиться при выполнении работы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Химия - непрограммируемый калькулятор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Также к каждому варианту экзаменационной работы прилагаются следующие материалы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ериодическая система химических элементов Д.И. Менделеева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таблица растворимости солей, кислот и оснований в воде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электрохимический ряд напряжений металлов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География - линейка, транспортир, непрограммируемый калькулятор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Иностранный язык -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ополнительные материалы и оборудование на экзамене по иностранному языку включают звуковоспроизводящую аппаратуру, аудиокассеты или компакт-диски (CD) с материалами для выполнения заданий раздела 1 "Аудирование". </a:t>
            </a: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324000" y="1177920"/>
            <a:ext cx="849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обавлены новые/скорректированы задания в КИМ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о истории, географии, обществознанию, русскому языку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совершенствованы критерии оценивания заданий с развернутым ответом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о истории, литературе, обществознанию, русскому языку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точнены формулировки и требования заданий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 КИМ по всем предметам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 сводной таблице перечислены планируемые изменения, касающиеся структуры, содержания, системы оценивания экзаменационных работ ЕГЭ 2013 г. по каждому общеобразовательному предмету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пецификациях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по всем предметам уточнена информация в разделах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Изменения в КИМ ЕГЭ 2013 г. в сравнении с 2012 г.»; «Система оценивания выполнения отдельных заданий и экзаменационной работы в целом» (в части информации о порядке назначения 3-го эксперта)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ремя проведения экзаменов, на которые отводилось 4 часа, в соответствии с требованиями СанПиН сокращено на 5 минут (с 240 до 235 минут), что отражено в разделе «Продолжительность ЕГЭ»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5" name="Группа 4"/>
          <p:cNvGrpSpPr/>
          <p:nvPr/>
        </p:nvGrpSpPr>
        <p:grpSpPr>
          <a:xfrm>
            <a:off x="-23760" y="6267600"/>
            <a:ext cx="9144000" cy="615960"/>
            <a:chOff x="-23760" y="6267600"/>
            <a:chExt cx="9144000" cy="615960"/>
          </a:xfrm>
        </p:grpSpPr>
        <p:pic>
          <p:nvPicPr>
            <p:cNvPr id="146" name="Picture 13" descr=""/>
            <p:cNvPicPr/>
            <p:nvPr/>
          </p:nvPicPr>
          <p:blipFill>
            <a:blip r:embed="rId1"/>
            <a:stretch/>
          </p:blipFill>
          <p:spPr>
            <a:xfrm>
              <a:off x="-23760" y="6267600"/>
              <a:ext cx="91440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18" descr="Герб Республики Татарстан"/>
            <p:cNvPicPr/>
            <p:nvPr/>
          </p:nvPicPr>
          <p:blipFill>
            <a:blip r:embed="rId2"/>
            <a:stretch/>
          </p:blipFill>
          <p:spPr>
            <a:xfrm>
              <a:off x="8523000" y="6291720"/>
              <a:ext cx="572760" cy="57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TextBox 2"/>
          <p:cNvSpPr/>
          <p:nvPr/>
        </p:nvSpPr>
        <p:spPr>
          <a:xfrm>
            <a:off x="663480" y="18900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нения в КИМ ЕГЭ (2013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9" name="Рисунок 6" descr="of_sborka1aug.png"/>
          <p:cNvPicPr/>
          <p:nvPr/>
        </p:nvPicPr>
        <p:blipFill>
          <a:blip r:embed="rId3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менения в КИМ ЕГЭ (2013)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Математика – </a:t>
            </a:r>
            <a:r>
              <a:rPr b="1" i="1" lang="ru-RU" sz="2400" spc="-1" strike="noStrike">
                <a:solidFill>
                  <a:srgbClr val="2045ae"/>
                </a:solidFill>
                <a:latin typeface="Arial"/>
              </a:rPr>
              <a:t>изменений нет. 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Биология – </a:t>
            </a:r>
            <a:r>
              <a:rPr b="1" i="1" lang="ru-RU" sz="2400" spc="-1" strike="noStrike">
                <a:solidFill>
                  <a:srgbClr val="2045ae"/>
                </a:solidFill>
                <a:latin typeface="Arial"/>
              </a:rPr>
              <a:t>изменений нет. 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Химия – </a:t>
            </a:r>
            <a:r>
              <a:rPr b="1" i="1" lang="ru-RU" sz="2400" spc="-1" strike="noStrike">
                <a:solidFill>
                  <a:srgbClr val="2045ae"/>
                </a:solidFill>
                <a:latin typeface="Arial"/>
              </a:rPr>
              <a:t>изменений нет. 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Физика 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2045ae"/>
                </a:solidFill>
                <a:latin typeface="Arial"/>
              </a:rPr>
              <a:t>изменений нет. 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Иностранные языки – </a:t>
            </a:r>
            <a:r>
              <a:rPr b="1" i="1" lang="ru-RU" sz="2400" spc="-1" strike="noStrike">
                <a:solidFill>
                  <a:srgbClr val="2045ae"/>
                </a:solidFill>
                <a:latin typeface="Arial"/>
              </a:rPr>
              <a:t>изменений нет. 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Русский язык – </a:t>
            </a:r>
            <a:r>
              <a:rPr b="1" i="1" lang="ru-RU" sz="2400" spc="-1" strike="noStrike">
                <a:solidFill>
                  <a:srgbClr val="2045ae"/>
                </a:solidFill>
                <a:latin typeface="Arial"/>
              </a:rPr>
              <a:t>принципиальных изменений нет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1. Изменен формат задания А1.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2. Уточнены критерии проверки и оценки выполнения заданий с развернутым ответом (критерий К1).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3. На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30 минут (со 180 до 210) увеличено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время выполнения работы.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менения в КИМ ЕГЭ (2013)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География 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2045ae"/>
                </a:solidFill>
                <a:latin typeface="Arial"/>
              </a:rPr>
              <a:t>принципиальных изменений нет. 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1. Количество заданий в части 2 сокращено с 14 до 13. Соответственно, общее количество заданий сократилось с 44 до 43, а максимальный первичный балл за выполнение всех заданий работы – с 54 до 53.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2. В КИМ 2013 г. включено новое задание базового уровня сложности (А24), проверяющее умение определять и сравнивать по разным источникам информации географические тенденции развития социально-экономических процессов и явлений и задание повышенного уровня сложности (В5), проверяющее умение решать задачи на определения различий во времени в разных часовых зонах.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менения в КИМ ЕГЭ (2013)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История </a:t>
            </a:r>
            <a:r>
              <a:rPr b="1" i="1" lang="ru-RU" sz="1400" spc="-1" strike="noStrike">
                <a:solidFill>
                  <a:srgbClr val="2045ae"/>
                </a:solidFill>
                <a:latin typeface="Arial"/>
              </a:rPr>
              <a:t>– изменения </a:t>
            </a:r>
            <a:r>
              <a:rPr b="1" i="1" lang="ru-RU" sz="1400" spc="-1" strike="noStrike">
                <a:solidFill>
                  <a:srgbClr val="ff3300"/>
                </a:solidFill>
                <a:latin typeface="Arial"/>
              </a:rPr>
              <a:t>существенные</a:t>
            </a:r>
            <a:r>
              <a:rPr b="1" i="1" lang="ru-RU" sz="1400" spc="-1" strike="noStrike">
                <a:solidFill>
                  <a:srgbClr val="2045ae"/>
                </a:solidFill>
                <a:latin typeface="Arial"/>
              </a:rPr>
              <a:t> (в структуре и содержании КИМ) </a:t>
            </a:r>
            <a:r>
              <a:rPr b="0" lang="ru-RU" sz="14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45ae"/>
                </a:solidFill>
                <a:latin typeface="Arial"/>
              </a:rPr>
              <a:t>Общее направление совершенствования КИМ – усиление блока заданий, проверяющих аналитические и информационно-коммуникативные умения выпускников. 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45ae"/>
                </a:solidFill>
                <a:latin typeface="Arial"/>
              </a:rPr>
              <a:t>Часть 2 увеличена с 12 до 13 заданий. Добавлены блоки заданий на работу с исторической картой (В8–В11) и иллюстративным материалом (В12–В13). В целях оптимизации проверки</a:t>
            </a:r>
            <a:r>
              <a:rPr b="0" lang="ru-RU" sz="8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045ae"/>
                </a:solidFill>
                <a:latin typeface="Arial"/>
              </a:rPr>
              <a:t>сформированности комплекса умений, связанных с анализом исторического источника, изменена структура задания В9 (по нумерации 2012 г.) на работу с историческим источником. 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45ae"/>
                </a:solidFill>
                <a:latin typeface="Arial"/>
              </a:rPr>
              <a:t>При выполнении задания В10 (по нумерации 2012 г.) на систематизацию исторической информации (выбор лишнего термина из предложенного ряда) требуется указать цифру, которой обозначен правильный ответ, а не выписать сам термин. 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45ae"/>
                </a:solidFill>
                <a:latin typeface="Arial"/>
              </a:rPr>
              <a:t>В части 3 изменена структура задания С5. Новое задание предполагает приведение аргументов как в поддержку, так и в опровержение оценки определенного исторического явления, процесса. Максимальный балл за правильное выполнение задания С5 увеличен с 3 до 4. 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45ae"/>
                </a:solidFill>
                <a:latin typeface="Arial"/>
              </a:rPr>
              <a:t>В задании С6 представлены не три, а четыре исторических деятеля, один из которых изучается в курсе Всеобщей истории. Задание С6 также усовершенствовано в направлении большей формализации при оценивании работ. По отдельному критерию (К3) оценивается указание основных результатов деятельности исторической личности. Максимальный балл, который можно получить за правильное выполнение задания С6, увеличен с 5 до 6.</a:t>
            </a:r>
            <a:r>
              <a:rPr b="0" lang="ru-RU" sz="14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такое ЕГЭ 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Единый государственный экзамен (ЕГЭ) – это одна из форм </a:t>
            </a: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1"/>
              </a:rPr>
              <a:t>государственной (итоговой) аттестации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, которая проводится для выпускников образовательных учреждений, освоивших основные общеобразовательные программы среднего (полного) общего образования (10,11 классы) </a:t>
            </a:r>
            <a:r>
              <a:rPr b="0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в очной, очно-заочной (вечерней), заочной формах.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менения в КИМ ЕГЭ (2013)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Arial"/>
              </a:rPr>
              <a:t>Обществознание – </a:t>
            </a:r>
            <a:r>
              <a:rPr b="1" i="1" lang="ru-RU" sz="1800" spc="-1" strike="noStrike">
                <a:solidFill>
                  <a:srgbClr val="2045ae"/>
                </a:solidFill>
                <a:latin typeface="Arial"/>
              </a:rPr>
              <a:t>принципиальных изменений нет. </a:t>
            </a: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1. Усложнено задание В5. Общее количество приведенных в условии задания суждений увеличивается с четырех до пяти. Экзаменующиеся должны распределить их по трем, вместо прежних двух, группам: суждения-факты, суждения-оценки, суждения – теоретические утверждения. Данное изменение позволит выявлять умение различать в текстах социальной направленности важный и широко представленный в них компонент – положения теории, на которых базируется современное научное обществознание. 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2. Темы, предлагаемые для написания эссе, сгруппированы в пять блоков вместо прежних шести. Темы, раскрываемые с учетом положений социологии и социальной психологии, теперь включаются в одно общее направление. Экзаменуемый при написании эссе получает возможность использовать положения и понятийный аппарат каждой из этих общественных наук. 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3. Скорректированы требования задания С9. 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4. Усовершенствованы критерии оценивания заданий С5, С8, С9. 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менения в КИМ ЕГЭ (2013)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45ae"/>
                </a:solidFill>
                <a:latin typeface="Arial"/>
              </a:rPr>
              <a:t>Литература – </a:t>
            </a:r>
            <a:r>
              <a:rPr b="1" i="1" lang="ru-RU" sz="2000" spc="-1" strike="noStrike">
                <a:solidFill>
                  <a:srgbClr val="2045ae"/>
                </a:solidFill>
                <a:latin typeface="Arial"/>
              </a:rPr>
              <a:t>принципиальных изменений нет. 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Существенно усовершенствована система проверки и оценивания выполнения сопоставительных заданий С2 и С4. Внесены уточнения в инструкции к заданиям. </a:t>
            </a: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45ae"/>
                </a:solidFill>
                <a:latin typeface="Arial"/>
              </a:rPr>
              <a:t>Информатика и ИКТ – </a:t>
            </a:r>
            <a:r>
              <a:rPr b="1" i="1" lang="ru-RU" sz="2000" spc="-1" strike="noStrike">
                <a:solidFill>
                  <a:srgbClr val="2045ae"/>
                </a:solidFill>
                <a:latin typeface="Arial"/>
              </a:rPr>
              <a:t>принципиальных изменений нет. </a:t>
            </a: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1. Одно задание с кратким ответом по теме «Кодирование текстовой информации» заменено на задание по теме «Рекурсивные алгоритмы» раздела «Элементы теории алгоритмов»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2. Немного изменена последовательность заданий во второй части работы. 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559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олжительность ЕГЭ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оугольник 1"/>
          <p:cNvSpPr/>
          <p:nvPr/>
        </p:nvSpPr>
        <p:spPr>
          <a:xfrm>
            <a:off x="250920" y="1071720"/>
            <a:ext cx="8678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Э по всем общеобразовательным предметам в субъектах Российской Федерации начина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0.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естному времени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должительность ЕГЭ: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d75f3"/>
                </a:solidFill>
                <a:latin typeface="Times New Roman"/>
                <a:ea typeface="Times New Roman"/>
              </a:rPr>
              <a:t>по математике, физике, литературе, информатике и информационно-коммуникационным технологиям (ИКТ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авляет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 часа 55 мин.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235 минут)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d75f3"/>
                </a:solidFill>
                <a:latin typeface="Times New Roman"/>
                <a:ea typeface="Times New Roman"/>
              </a:rPr>
              <a:t>по русскому языку</a:t>
            </a:r>
            <a:r>
              <a:rPr b="0" lang="ru-RU" sz="1800" spc="-1" strike="noStrike">
                <a:solidFill>
                  <a:srgbClr val="0d75f3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d75f3"/>
                </a:solidFill>
                <a:latin typeface="Times New Roman"/>
                <a:ea typeface="Times New Roman"/>
              </a:rPr>
              <a:t>истории, обществознан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,5 часа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210 минут)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d75f3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d75f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d75f3"/>
                </a:solidFill>
                <a:latin typeface="Times New Roman"/>
                <a:ea typeface="Times New Roman"/>
              </a:rPr>
              <a:t>по биологии, географии, химии,  по иностранным языкам (английский, французский, немецкий, испанский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 часа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180 минут)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времени по иностранным языкам на 20 минут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2" name="Группа 4"/>
          <p:cNvGrpSpPr/>
          <p:nvPr/>
        </p:nvGrpSpPr>
        <p:grpSpPr>
          <a:xfrm>
            <a:off x="-23760" y="6267600"/>
            <a:ext cx="9144000" cy="615960"/>
            <a:chOff x="-23760" y="6267600"/>
            <a:chExt cx="9144000" cy="615960"/>
          </a:xfrm>
        </p:grpSpPr>
        <p:pic>
          <p:nvPicPr>
            <p:cNvPr id="163" name="Picture 13" descr=""/>
            <p:cNvPicPr/>
            <p:nvPr/>
          </p:nvPicPr>
          <p:blipFill>
            <a:blip r:embed="rId1"/>
            <a:stretch/>
          </p:blipFill>
          <p:spPr>
            <a:xfrm>
              <a:off x="-23760" y="6267600"/>
              <a:ext cx="91440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18" descr="Герб Республики Татарстан"/>
            <p:cNvPicPr/>
            <p:nvPr/>
          </p:nvPicPr>
          <p:blipFill>
            <a:blip r:embed="rId2"/>
            <a:stretch/>
          </p:blipFill>
          <p:spPr>
            <a:xfrm>
              <a:off x="8523000" y="6291720"/>
              <a:ext cx="572760" cy="57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Рисунок 6" descr="of_sborka1aug.png"/>
          <p:cNvPicPr/>
          <p:nvPr/>
        </p:nvPicPr>
        <p:blipFill>
          <a:blip r:embed="rId3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6512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 процедуре экзамена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4978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45ae"/>
                </a:solidFill>
                <a:latin typeface="Arial"/>
              </a:rPr>
              <a:t>Экзамены проводятся в пунктах приёма экзаменов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(ППЭ);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45ae"/>
                </a:solidFill>
                <a:latin typeface="Arial"/>
              </a:rPr>
              <a:t>Начало экзамена – 10.00;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45ae"/>
                </a:solidFill>
                <a:latin typeface="Arial"/>
              </a:rPr>
              <a:t>Сбор в день экзамена в гимназии в 8.00-8.45 (организовано в сопровождении учителя отправление в ППЭ).  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Обучающийся при себе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должен иметь: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аспорт, 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опуск, 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2 гелиевые ручки (чёрный цвет).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За 15 мин.до окончания экзамена </a:t>
            </a:r>
            <a:r>
              <a:rPr b="1" lang="ru-RU" sz="2000" spc="-1" strike="noStrike" u="sng">
                <a:solidFill>
                  <a:srgbClr val="0033cc"/>
                </a:solidFill>
                <a:uFillTx/>
                <a:latin typeface="Arial"/>
              </a:rPr>
              <a:t>все выпускники, оставшиеся в аудитории, ожидают окончания экзамена.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и выходе: поставить отметку на ППЭ в пропуске 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(окно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«Бланки ЕГЭ сданы») – штамп и подпись организатора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ультаты ЕГ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Выпускник текущего года узнает свои индивидуальные результаты ЕГЭ не позднее 3-х рабочих дней со дня их утверждения ГЭК одним из следующих способов: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5c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в гимназии;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5c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на сайте </a:t>
            </a:r>
            <a:r>
              <a:rPr b="0" lang="en-US" sz="2800" spc="-1" strike="noStrike">
                <a:solidFill>
                  <a:srgbClr val="2045ae"/>
                </a:solidFill>
                <a:latin typeface="Arial"/>
              </a:rPr>
              <a:t>www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2045ae"/>
                </a:solidFill>
                <a:latin typeface="Arial"/>
              </a:rPr>
              <a:t>rcmco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2045ae"/>
                </a:solidFill>
                <a:latin typeface="Arial"/>
              </a:rPr>
              <a:t>org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в разделе </a:t>
            </a:r>
            <a:r>
              <a:rPr b="1" lang="ru-RU" sz="2800" spc="-1" strike="noStrike" u="sng">
                <a:solidFill>
                  <a:srgbClr val="2045ae"/>
                </a:solidFill>
                <a:uFillTx/>
                <a:latin typeface="Arial"/>
              </a:rPr>
              <a:t>«Сервис «Участник ЕГЭ»</a:t>
            </a: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(в соответствии с требованиями законодательства Российской Федерации в области защиты персональных данных).</a:t>
            </a: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ттестат о среднем (полном) общем образовани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Результаты ЕГЭ </a:t>
            </a:r>
            <a:r>
              <a:rPr b="0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не влияют на оценки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по соответствующим предметам в аттестате, но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т успешной сдачи ЕГЭ по двум обязательным предметам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(русскому языку и математике) зависит получение аттестата.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Чтобы получить аттестат, у выпускника должны быть результаты ЕГЭ по русскому языку и математике, не ниже установленных минимальных значений.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496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поряжением Рособрнадзора установлено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инимальное количество баллов по основным предмета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ЕГЭ в 2013 году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о русскому языку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  –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6 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тестовых 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(17 первичных) баллов;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о математике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4 тестовых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  (5 первичных) баллов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Если выпускник текущего года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олучает результат ниже минимального количества баллов по одному из обязательных предметов (русский язык или математика),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 то он 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может пересдать 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этот экзамен в этом же году. Сделать это можно в резервные дни в текущем году, которые устанавливаются приказом Министерства образования и науки Российской Федерации.</a:t>
            </a: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04920" y="228600"/>
            <a:ext cx="852624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нимальные пороги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66560" y="762120"/>
          <a:ext cx="8209080" cy="55702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Минимальное значение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Физика 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Химия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Информатика и ИКТ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Биология 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История 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География 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Обществознание 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Литература 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052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Иностранные языки (английский, французский, немецкий, испанский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ттеста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000" y="1076400"/>
            <a:ext cx="8578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Если выпускник текущего года получает результаты ниже минимального количества баллов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 </a:t>
            </a:r>
            <a:r>
              <a:rPr b="1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по русскому языку, 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и</a:t>
            </a:r>
            <a:r>
              <a:rPr b="1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 по математике,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он сможет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ересдать ЕГЭ только в следующем году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. Таким образом, выпускник не получит </a:t>
            </a:r>
            <a:r>
              <a:rPr b="0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в текущем году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свидетельства о результатах ЕГЭ, а </a:t>
            </a:r>
            <a:r>
              <a:rPr b="0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вместо аттестата ему должна быть выдана справка об обучении в школе.</a:t>
            </a:r>
            <a:r>
              <a:rPr b="1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заполнения бланков ЕГ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При заполнении </a:t>
            </a:r>
            <a:r>
              <a:rPr b="1" lang="ru-RU" sz="2800" spc="-1" strike="noStrike" u="sng">
                <a:solidFill>
                  <a:srgbClr val="3dc5c5"/>
                </a:solidFill>
                <a:uFillTx/>
                <a:latin typeface="Arial"/>
                <a:hlinkClick r:id="rId1"/>
              </a:rPr>
              <a:t>бланков ЕГЭ</a:t>
            </a: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 необходимо точно соблюдать </a:t>
            </a:r>
            <a:r>
              <a:rPr b="1" lang="ru-RU" sz="2800" spc="-1" strike="noStrike" u="sng">
                <a:solidFill>
                  <a:srgbClr val="3dc5c5"/>
                </a:solidFill>
                <a:uFillTx/>
                <a:latin typeface="Arial"/>
                <a:hlinkClick r:id="rId2"/>
              </a:rPr>
              <a:t>правила</a:t>
            </a: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, так как информация, внесенная в бланки, сканируется и обрабатывается с использованием специального технического оборудования и средств вычислительной техники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ключе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Некоторые категории выпускников имеют право на прохождение государственной (итоговой) аттестации в форме </a:t>
            </a: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1"/>
              </a:rPr>
              <a:t>государственного выпускного экзамена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(ГВЭ),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или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очетать обе формы: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2"/>
              </a:rPr>
              <a:t>выпускники с ограниченными возможностями здоровья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комендации по выполнению работы по русскому языку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На выполнение экзаменационной работы по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русскому языку даётся 3,5 часа (210 минут).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045ae"/>
                </a:solidFill>
                <a:uFillTx/>
                <a:latin typeface="Arial"/>
              </a:rPr>
              <a:t>Часть 1 (А1-А30)</a:t>
            </a:r>
            <a:br>
              <a:rPr sz="2800"/>
            </a:b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Среднее время выполнения каждого задания, как показывает практика, от 1 до 3 минут. Ориентировочное время выполнения этой части работы – 60 минут.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045ae"/>
                </a:solidFill>
                <a:uFillTx/>
                <a:latin typeface="Arial"/>
              </a:rPr>
              <a:t>Часть 2 (В1-В8)</a:t>
            </a:r>
            <a:br>
              <a:rPr sz="2800"/>
            </a:b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На выполнение каждого задания требуется от 3 до 7 минут. Ориентировочное время выполнения второй части работы – 30 минут.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комендации по оформлению работы по русскому языку.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Часть 2 (В1-В8)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Ответы заданиям следует сформулировать самостоятельно и записать, при этом: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ответ следует записать в бланке ответов №1 справа от номера задания, начиная 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с первой клеточки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каждый символ (буква или цифра) записывается 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в отдельную клеточку</a:t>
            </a:r>
            <a:r>
              <a:rPr b="0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начертание символов должно 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соответствовать образцам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при записи ответов 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пробелы не используются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, поэтому многословный ответ записывается слитно, например: 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акая мама =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такаямама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слова или числа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при перечислении 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разделяются запятой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запятая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записывается</a:t>
            </a:r>
            <a:r>
              <a:rPr b="0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 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в отдельную клеточку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порядок записи цифр в ответе В8 имеет значение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 оформлении задания В8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ри выполнении заданий этой части запишите ваш ответ в бланке ответов № 1 справа от номера задания (В1 – В8), начиная с первой клеточки. Каждую букву или цифру пишите в отдельной клеточке в соответствии с приведёнными в бланке образцами. Слова или числа при перечислении отделяйте запятыми. Каждую запятую ставьте в отдельную клеточку. При записи ответов пробелы не используются. 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Если экзаменуемый оформил свой ответ на задание В8 без запятых, компьютерная программа наверняка зачтёт его как верный, но лишь в том в случае, если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последовательность цифр в ответе будет указана правильно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язык. Часть 3 (С1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Рекомендуемое время выполнения задания – 90 - 100 минут. </a:t>
            </a:r>
            <a:br>
              <a:rPr sz="2000"/>
            </a:b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Эта небольшая письменная работа по тексту (сочинение), выполняется по исходному тексту и проверяется экспертами.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сочинение-рассуждение имеет чёткую структуру и логику и должно строиться по определённым законам: в нём должны быть тезис и аргументы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объём сочинения - не менее 150 слов.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сочинение следует писать аккуратно, разборчивым почерком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Работа не засчитывается (оценивается 0 баллов), задание считается </a:t>
            </a:r>
            <a:r>
              <a:rPr b="1" lang="ru-RU" sz="2000" spc="-1" strike="noStrike">
                <a:solidFill>
                  <a:srgbClr val="2045ae"/>
                </a:solidFill>
                <a:latin typeface="Arial"/>
              </a:rPr>
              <a:t>невыполненным</a:t>
            </a: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, если: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насчитывает менее 70 слов;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написано без опоры на прочитанный текст (не по данному тексту);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представляет собой пересказанный или полностью переписанный исходный текст без каких бы то ни было комментариев.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уктура экзаменационной работы </a:t>
            </a:r>
            <a:br>
              <a:rPr sz="2800"/>
            </a:b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по математик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1076400"/>
            <a:ext cx="85690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Экзаменационная работа по математике состоит из двух частей, включающих в себя 20 заданий.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Часть 1 содержит 14 заданий с кратким ответом (В1–В14) базового уровня по материалу курса математики. Ответом является 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целое число или конечная десятичная дробь.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Часть 2 содержит 6 более сложных заданий (С1–С6) по материалу курса математики. При их выполнении надо записать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олное решение и ответ.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комендации по выполнению работы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 математик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На выполнение экзаменационной работы по математике дается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3 часа 55 минут (235 минут).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Arial"/>
              </a:rPr>
              <a:t>Часть 1 (В1 — В14)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Для записи решений и ответов на задания используйте бланк ответов № 1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Задание считается выполненным, если верный ответ зафиксирован в той форме, которая предусмотрена инструкцией по выполнению задания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Ответом на задания части 1 является </a:t>
            </a:r>
            <a:r>
              <a:rPr b="1" lang="ru-RU" sz="1800" spc="-1" strike="noStrike" u="sng">
                <a:solidFill>
                  <a:srgbClr val="2045ae"/>
                </a:solidFill>
                <a:uFillTx/>
                <a:latin typeface="Arial"/>
              </a:rPr>
              <a:t>целое число или конечная десятичная дробь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Ответ следует записать справа от номера выполняемого задания, начиная </a:t>
            </a:r>
            <a:r>
              <a:rPr b="1" lang="ru-RU" sz="1800" spc="-1" strike="noStrike" u="sng">
                <a:solidFill>
                  <a:srgbClr val="2045ae"/>
                </a:solidFill>
                <a:uFillTx/>
                <a:latin typeface="Arial"/>
              </a:rPr>
              <a:t>с первой клеточки</a:t>
            </a: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Arial"/>
              </a:rPr>
              <a:t>Каждую цифру, знак «минус» и запятую пишите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 отдельной клеточке</a:t>
            </a:r>
            <a:r>
              <a:rPr b="1" lang="ru-RU" sz="1800" spc="-1" strike="noStrike">
                <a:solidFill>
                  <a:srgbClr val="2045ae"/>
                </a:solidFill>
                <a:latin typeface="Arial"/>
              </a:rPr>
              <a:t> в соответствии с приведенными в бланке образцами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Единицы измерений писать не нужно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Дать ответы на часть 1, которая является общеобразовательной, необходимо будет всем выпускникам</a:t>
            </a: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 школ. Существенная часть примеров в базовой части предполагает проверку того, как человек научился выполнять алгоритмизированные действия и делать выводы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Часть 1 проверяется с помощью компьютера. Поэтому следует обращать внимание на правильное оформление ответов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матика. Часть 2 (С1-С6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Для записи решений и ответов используйте бланк ответов № 2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Запишите сначала номер выполняемого задания, а затем полное обоснованное решение и ответ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Возможны различные способы решения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Должно быть записано полное обоснованное решение задачи и ответ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Формы записи решения и ответа могут быть произвольными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Часть 2 проверяют эксперты. Главное требование — решение должно быть математически грамотным, из него должен быть понятен ход рассуждений автора работы. Полнота и обоснованность рассуждений оцениваются независимо от выбранного метода решения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ценка экзаменационной работы </a:t>
            </a:r>
            <a:br>
              <a:rPr sz="2800"/>
            </a:b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 математик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560" y="1076400"/>
            <a:ext cx="84358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Правильный ответ в зависимости от сложности каждого задания оценивается одним или несколькими баллами. 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Баллы, полученные за все выполненные задания, суммируются.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Правильное решение каждого из заданий части 1 (В1-В14) приносит 1 первичный балл. Максимальное количество баллов — 14.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Все задания части 2 (С1 — С6) оцениваются от 0 до 4 баллов. </a:t>
            </a:r>
            <a:br>
              <a:rPr sz="2000"/>
            </a:b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За правильное решение каждого из заданий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1 и С2 – 2 балла,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3 и С4 – 3 балла,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5 и С6 – 4 балла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ерное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выполнение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е менее пяти заданий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экзаменационной работы отвечает </a:t>
            </a: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минимальному уровню знаний выпускника школы по математике.</a:t>
            </a:r>
            <a:br>
              <a:rPr sz="1800"/>
            </a:b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аксимальное количество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ервичных баллов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за всю работу —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32.</a:t>
            </a:r>
            <a:br>
              <a:rPr sz="1800"/>
            </a:b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ервичные баллы преобразуются в тестовые баллы.</a:t>
            </a:r>
            <a:br>
              <a:rPr sz="1800"/>
            </a:b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32 первичных балла соответствуют 100 тестовым баллам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ПЕЛЛЯЦИ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1.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 нарушении процедуры проведения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 экзамена – </a:t>
            </a:r>
            <a:r>
              <a:rPr b="1" lang="ru-RU" sz="3200" spc="-1" strike="noStrike" u="sng">
                <a:solidFill>
                  <a:srgbClr val="0033cc"/>
                </a:solidFill>
                <a:uFillTx/>
                <a:latin typeface="Arial"/>
              </a:rPr>
              <a:t>в день проведения экзамена, не выходя из ОУ-ППЭ руководителю ППЭ.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2.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 несогласии с выставленными баллами (отметкой)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 – </a:t>
            </a:r>
            <a:r>
              <a:rPr b="1" lang="ru-RU" sz="3200" spc="-1" strike="noStrike" u="sng">
                <a:solidFill>
                  <a:srgbClr val="0033cc"/>
                </a:solidFill>
                <a:uFillTx/>
                <a:latin typeface="Arial"/>
              </a:rPr>
              <a:t>в течение 3-х дней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 после официального объявления результатов экзамена.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пелляция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 нарушении установленного порядка проведения ЕГЭ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44704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Подается участником ЕГЭ 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в день экзамена, 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не покидая ППЭ.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Действия участника ЕГЭ: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получить от организатора в аудитории форму 2 ППЭ (2 экземпляра), по которой составляется апелляция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составить апелляцию 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в 2-х экземплярах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передать оба экземпляра уполномоченному представителю ГЭК, который обязан принять и удостоверить их своей подписью, один экземпляр отдать участнику ЕГЭ, другой передать в конфликтную комиссию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получить информацию о времени и месте рассмотрения апелляции конфликтной комиссией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39152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пуск к государственной (итоговой) аттестаци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1076400"/>
            <a:ext cx="84358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К </a:t>
            </a: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1"/>
              </a:rPr>
              <a:t>ЕГЭ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 допускаются выпускники, имеющие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итоговые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отметки по всем общеобразовательным предметам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за X, XI (XII) классы не ниже удовлетворительных.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Решение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о допуске к ГИА</a:t>
            </a:r>
            <a:r>
              <a:rPr b="0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 принимает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едагогический совет</a:t>
            </a:r>
            <a:r>
              <a:rPr b="0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 образовательного учреждения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, оформляя его соответствующим приказом не позднее 25 мая текущего года.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пелляция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 нарушении установленного порядка проведения ЕГЭ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1076400"/>
            <a:ext cx="84358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Конфликтная комиссия рассматривает апелляцию о нарушении установленного порядка проведения ЕГЭ не более 2-х рабочих дней и выносит одно из решений: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5c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отклонение апелляции;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5c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удовлетворение апелляции.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В случае </a:t>
            </a:r>
            <a:r>
              <a:rPr b="0" lang="ru-RU" sz="2800" spc="-1" strike="noStrike" u="sng">
                <a:solidFill>
                  <a:srgbClr val="2045ae"/>
                </a:solidFill>
                <a:uFillTx/>
                <a:latin typeface="Arial"/>
              </a:rPr>
              <a:t>удовлетворения апелляции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результат</a:t>
            </a: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 ЕГЭ участника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ннулируется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 и участнику предоставляется возможность сдать ЕГЭ по данному предмету в другой день (резервный), предусмотренный единым расписанием.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а подачи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пелляции о несогласии с результатами ЕГЭ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Подается </a:t>
            </a:r>
            <a:r>
              <a:rPr b="1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в течение 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2-х рабочих дней</a:t>
            </a:r>
            <a:r>
              <a:rPr b="0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 после официального объявления индивидуальных результатов экзамена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и ознакомления с ними участника ЕГЭ </a:t>
            </a:r>
            <a:r>
              <a:rPr b="1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в образовательное учреждение.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йствия участника ЕГЭ при подаче апелляции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8920" y="1076400"/>
            <a:ext cx="87138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составить апелляцию 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в 2-х экземплярах, (получив бланки в гимназии)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один экземпляр передать куратору ЕГЭ в гимназии (один экземпляр оставить у себя)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получить информацию о времени и месте рассмотрения апелляции у куратора ЕГЭ гимназии (через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 классного руководителя)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прийти на процедуру рассмотрения апелляций в конфликтную комиссию, имея при себе паспорт и 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пропуск с печатью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«Бланки ЕГЭ сданы» (или штампом ППЭ).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При рассмотрении апелляции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вместо участника ЕГЭ или вместе с ним могут присутствовать его родители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(законные представители),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которые должны иметь при себе паспорта. 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По желанию участника ЕГЭ его апелляция может быть рассмотрена без его присутствия.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идетельство о результатах ЕГ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Свидетельство о результатах ЕГЭ – это документ, который выдается лицам, участвовавшим в ЕГЭ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 свидетельство </a:t>
            </a:r>
            <a:r>
              <a:rPr b="1" lang="ru-RU" sz="2000" spc="-1" strike="noStrike" u="sng">
                <a:solidFill>
                  <a:srgbClr val="000066"/>
                </a:solidFill>
                <a:uFillTx/>
                <a:latin typeface="Arial"/>
              </a:rPr>
              <a:t>не заносятся результаты об экзаменах, по которым не преодолен минимальный порог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.  Однако информация обо всех сданных участником ЕГЭ предметах заносится в 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едеральную базу данных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45ae"/>
                </a:solidFill>
                <a:latin typeface="Arial"/>
              </a:rPr>
              <a:t>Свидетельство о результатах ЕГЭ выдается в гимназии</a:t>
            </a: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участнику ЕГЭ или его родителям (законным представителям) при предъявлении документа, удостоверяющего личность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лицу, уполномоченному участником ЕГЭ, на основании документа, удостоверяющего его личность, и оформленной в установленном порядке доверенности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Свидетельство о результатах ЕГЭ действует до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31 декабря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 года, следующего за годом его получения (31.12.2014г.)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3"/>
          <p:cNvSpPr/>
          <p:nvPr/>
        </p:nvSpPr>
        <p:spPr>
          <a:xfrm>
            <a:off x="324000" y="1249200"/>
            <a:ext cx="85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бедители олимпиад и другие льготники имеют право на зачисление в вуз вне конкурса только в одно учебное заведение и на одну специальность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ьготники смогут подать документы в пять вузов, но в четырех из них они будут проходить конкурс на общих основаниях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9" name="Группа 4"/>
          <p:cNvGrpSpPr/>
          <p:nvPr/>
        </p:nvGrpSpPr>
        <p:grpSpPr>
          <a:xfrm>
            <a:off x="0" y="6242040"/>
            <a:ext cx="9144000" cy="615960"/>
            <a:chOff x="0" y="6242040"/>
            <a:chExt cx="9144000" cy="615960"/>
          </a:xfrm>
        </p:grpSpPr>
        <p:pic>
          <p:nvPicPr>
            <p:cNvPr id="210" name="Picture 13" descr=""/>
            <p:cNvPicPr/>
            <p:nvPr/>
          </p:nvPicPr>
          <p:blipFill>
            <a:blip r:embed="rId1"/>
            <a:stretch/>
          </p:blipFill>
          <p:spPr>
            <a:xfrm>
              <a:off x="0" y="6242040"/>
              <a:ext cx="91440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8" descr="Герб Республики Татарстан"/>
            <p:cNvPicPr/>
            <p:nvPr/>
          </p:nvPicPr>
          <p:blipFill>
            <a:blip r:embed="rId2"/>
            <a:stretch/>
          </p:blipFill>
          <p:spPr>
            <a:xfrm>
              <a:off x="8546760" y="6266160"/>
              <a:ext cx="572760" cy="57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TextBox 7"/>
          <p:cNvSpPr/>
          <p:nvPr/>
        </p:nvSpPr>
        <p:spPr>
          <a:xfrm>
            <a:off x="351000" y="19080"/>
            <a:ext cx="71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Льготникам разрешили поступать только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 один вуз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3" name="Рисунок 6" descr="of_sborka1aug.png"/>
          <p:cNvPicPr/>
          <p:nvPr/>
        </p:nvPicPr>
        <p:blipFill>
          <a:blip r:embed="rId3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18960"/>
            <a:ext cx="84960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ное тестирова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 русском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язык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1-х классах (25.12.2012г., РЦМКО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3520" y="1143000"/>
          <a:ext cx="8070840" cy="5510160"/>
        </p:xfrm>
        <a:graphic>
          <a:graphicData uri="http://schemas.openxmlformats.org/drawingml/2006/table">
            <a:tbl>
              <a:tblPr/>
              <a:tblGrid>
                <a:gridCol w="2847960"/>
                <a:gridCol w="1622160"/>
                <a:gridCol w="1800360"/>
                <a:gridCol w="1800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Результаты: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А</a:t>
                      </a:r>
                      <a:endParaRPr b="0" lang="en-US" sz="3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1 Б</a:t>
                      </a:r>
                      <a:endParaRPr b="0" lang="en-US" sz="3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ВСЕГО</a:t>
                      </a:r>
                      <a:endParaRPr b="0" lang="en-US" sz="3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5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Зайнутдинова Резеда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4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3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2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Кол-во участников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Кол-во в классе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Успеваемость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94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98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Качество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4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7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62,5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ное тестирова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 математике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 11-х классах (18.12.2012г. РОО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3520" y="1143000"/>
          <a:ext cx="7854840" cy="5575320"/>
        </p:xfrm>
        <a:graphic>
          <a:graphicData uri="http://schemas.openxmlformats.org/drawingml/2006/table">
            <a:tbl>
              <a:tblPr/>
              <a:tblGrid>
                <a:gridCol w="2847960"/>
                <a:gridCol w="1838160"/>
                <a:gridCol w="1584360"/>
                <a:gridCol w="1584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Результаты: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А</a:t>
                      </a:r>
                      <a:endParaRPr b="0" lang="en-US" sz="3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1 Б</a:t>
                      </a:r>
                      <a:endParaRPr b="0" lang="en-US" sz="3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ВСЕГО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5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4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3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2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Кол-во участников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Кол-во в классе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Успеваемость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95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98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Качество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1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6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ное тестирование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 режиме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n-line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 русском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язык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в 11-х классах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33520" y="1143000"/>
          <a:ext cx="7999200" cy="5575320"/>
        </p:xfrm>
        <a:graphic>
          <a:graphicData uri="http://schemas.openxmlformats.org/drawingml/2006/table">
            <a:tbl>
              <a:tblPr/>
              <a:tblGrid>
                <a:gridCol w="2847960"/>
                <a:gridCol w="1838160"/>
                <a:gridCol w="1584360"/>
                <a:gridCol w="1728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Результаты: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А</a:t>
                      </a:r>
                      <a:endParaRPr b="0" lang="en-US" sz="3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1 Б</a:t>
                      </a:r>
                      <a:endParaRPr b="0" lang="en-US" sz="3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ВСЕГО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5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4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3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2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Кол-во участников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Кол-во в классе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Успеваемость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8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87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Качество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4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1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ное тестирова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 режиме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n-line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 математик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1-х класса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533520" y="1143000"/>
          <a:ext cx="7854840" cy="5575320"/>
        </p:xfrm>
        <a:graphic>
          <a:graphicData uri="http://schemas.openxmlformats.org/drawingml/2006/table">
            <a:tbl>
              <a:tblPr/>
              <a:tblGrid>
                <a:gridCol w="2847960"/>
                <a:gridCol w="1838160"/>
                <a:gridCol w="1584360"/>
                <a:gridCol w="1584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Результаты: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А</a:t>
                      </a:r>
                      <a:endParaRPr b="0" lang="en-US" sz="3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1 Б</a:t>
                      </a:r>
                      <a:endParaRPr b="0" lang="en-US" sz="3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ВСЕГО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5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3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2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Кол-во участников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Кол-во в классе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Успеваемость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3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69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6</a:t>
                      </a: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Качество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7 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6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132840"/>
            <a:ext cx="70358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онное обеспечени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ГЭ и ГИА - 9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68360" y="1413000"/>
            <a:ext cx="3276720" cy="19893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Портал ЕГЭ, ГИА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Times New Roman"/>
                <a:ea typeface="Arial"/>
              </a:rPr>
              <a:t>http</a:t>
            </a:r>
            <a:r>
              <a:rPr b="1" lang="ru-RU" sz="2400" spc="-1" strike="noStrike" u="sng">
                <a:solidFill>
                  <a:srgbClr val="990033"/>
                </a:solidFill>
                <a:uFillTx/>
                <a:latin typeface="Times New Roman"/>
                <a:ea typeface="Arial"/>
              </a:rPr>
              <a:t>:</a:t>
            </a:r>
            <a:r>
              <a:rPr b="1" lang="en-US" sz="2400" spc="-1" strike="noStrike" u="sng">
                <a:solidFill>
                  <a:srgbClr val="990033"/>
                </a:solidFill>
                <a:uFillTx/>
                <a:latin typeface="Times New Roman"/>
                <a:ea typeface="Arial"/>
              </a:rPr>
              <a:t>//ege.edu.r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http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: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//rustest.r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6760" indent="-2667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http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//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ipi.ru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4788000" y="1989000"/>
            <a:ext cx="3322440" cy="1564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Arial"/>
              </a:rPr>
              <a:t>Сайт республиканского центра мониторинга качества образования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889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http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: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//rcmko.or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250920" y="3933720"/>
            <a:ext cx="3720960" cy="1746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Сайт МОиН РТ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65040" indent="-365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«Государственная (итоговая) аттестация выпускников 9 и 11 классов в 2012 году»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        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http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: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//mon.tatarstan.r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716360" y="1052640"/>
            <a:ext cx="3322800" cy="7646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7612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Arial"/>
              </a:rPr>
              <a:t>телефон горячей линии МОиН РТ: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292-24-3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27" name="Группа 7"/>
          <p:cNvGrpSpPr/>
          <p:nvPr/>
        </p:nvGrpSpPr>
        <p:grpSpPr>
          <a:xfrm>
            <a:off x="-23760" y="6267600"/>
            <a:ext cx="9144000" cy="615960"/>
            <a:chOff x="-23760" y="6267600"/>
            <a:chExt cx="9144000" cy="615960"/>
          </a:xfrm>
        </p:grpSpPr>
        <p:pic>
          <p:nvPicPr>
            <p:cNvPr id="228" name="Picture 13" descr=""/>
            <p:cNvPicPr/>
            <p:nvPr/>
          </p:nvPicPr>
          <p:blipFill>
            <a:blip r:embed="rId1"/>
            <a:stretch/>
          </p:blipFill>
          <p:spPr>
            <a:xfrm>
              <a:off x="-23760" y="6267600"/>
              <a:ext cx="91440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18" descr="Герб Республики Татарстан"/>
            <p:cNvPicPr/>
            <p:nvPr/>
          </p:nvPicPr>
          <p:blipFill>
            <a:blip r:embed="rId2"/>
            <a:stretch/>
          </p:blipFill>
          <p:spPr>
            <a:xfrm>
              <a:off x="8523000" y="6291720"/>
              <a:ext cx="572760" cy="57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0" name="Рисунок 6" descr="of_sborka1aug.png"/>
          <p:cNvPicPr/>
          <p:nvPr/>
        </p:nvPicPr>
        <p:blipFill>
          <a:blip r:embed="rId3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356000" y="3860640"/>
            <a:ext cx="437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айт МБОУ «Гимназия №3»: </a:t>
            </a:r>
            <a:r>
              <a:rPr b="0" lang="en-US" sz="1800" spc="-1" strike="noStrike" u="sng">
                <a:solidFill>
                  <a:srgbClr val="3dc5c5"/>
                </a:solidFill>
                <a:uFillTx/>
                <a:latin typeface="Arial"/>
                <a:hlinkClick r:id="rId4"/>
              </a:rPr>
              <a:t>https://</a:t>
            </a:r>
            <a:r>
              <a:rPr b="0" lang="en-US" sz="1800" spc="-1" strike="noStrike" u="sng">
                <a:solidFill>
                  <a:srgbClr val="3dc5c5"/>
                </a:solidFill>
                <a:uFillTx/>
                <a:latin typeface="Arial"/>
                <a:hlinkClick r:id="rId5"/>
              </a:rPr>
              <a:t>edu.tatar.ru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(Образовательные учреждения, Вахитовский район, МБОУ «Гимназия №3»,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«Информация о ЕГЭ и ГИА в 2013 году»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115920"/>
            <a:ext cx="73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кзамен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076400"/>
            <a:ext cx="850752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Для получения </a:t>
            </a:r>
            <a:r>
              <a:rPr b="1" lang="ru-RU" sz="2800" spc="-1" strike="noStrike" u="sng">
                <a:solidFill>
                  <a:srgbClr val="2045ae"/>
                </a:solidFill>
                <a:uFillTx/>
                <a:latin typeface="Arial"/>
              </a:rPr>
              <a:t>аттестата</a:t>
            </a:r>
            <a:r>
              <a:rPr b="0" lang="ru-RU" sz="2800" spc="-1" strike="noStrike" u="sng">
                <a:solidFill>
                  <a:srgbClr val="2045ae"/>
                </a:solidFill>
                <a:uFillTx/>
                <a:latin typeface="Arial"/>
              </a:rPr>
              <a:t> о среднем (полном ) общем образовании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обязательными 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являютс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предмета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dc5c5"/>
                </a:solidFill>
                <a:uFillTx/>
                <a:latin typeface="Arial"/>
                <a:hlinkClick r:id="rId1"/>
              </a:rPr>
              <a:t>ЕГЭ по русскому языку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 и </a:t>
            </a:r>
            <a:r>
              <a:rPr b="0" lang="ru-RU" sz="2800" spc="-1" strike="noStrike" u="sng">
                <a:solidFill>
                  <a:srgbClr val="3dc5c5"/>
                </a:solidFill>
                <a:uFillTx/>
                <a:latin typeface="Arial"/>
                <a:hlinkClick r:id="rId2"/>
              </a:rPr>
              <a:t>ЕГЭ по математике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Остальные экзамены называются </a:t>
            </a:r>
            <a:r>
              <a:rPr b="0" lang="ru-RU" sz="2800" spc="-1" strike="noStrike" u="sng">
                <a:solidFill>
                  <a:srgbClr val="2045ae"/>
                </a:solidFill>
                <a:uFillTx/>
                <a:latin typeface="Arial"/>
              </a:rPr>
              <a:t>экзаменами по выбору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, их количество определяет сам выпускник. Выбор предметов ЕГЭ, сдаваемых на </a:t>
            </a:r>
            <a:r>
              <a:rPr b="0" lang="ru-RU" sz="2800" spc="-1" strike="noStrike" u="sng">
                <a:solidFill>
                  <a:srgbClr val="3dc5c5"/>
                </a:solidFill>
                <a:uFillTx/>
                <a:latin typeface="Arial"/>
                <a:hlinkClick r:id="rId3"/>
              </a:rPr>
              <a:t>добровольной основе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, должен быть основан на перечне вступительных испытаний для </a:t>
            </a:r>
            <a:r>
              <a:rPr b="0" lang="ru-RU" sz="2800" spc="-1" strike="noStrike" u="sng">
                <a:solidFill>
                  <a:srgbClr val="3dc5c5"/>
                </a:solidFill>
                <a:uFillTx/>
                <a:latin typeface="Arial"/>
                <a:hlinkClick r:id="rId4"/>
              </a:rPr>
              <a:t>вузов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 или </a:t>
            </a:r>
            <a:r>
              <a:rPr b="0" lang="ru-RU" sz="2800" spc="-1" strike="noStrike" u="sng">
                <a:solidFill>
                  <a:srgbClr val="3dc5c5"/>
                </a:solidFill>
                <a:uFillTx/>
                <a:latin typeface="Arial"/>
                <a:hlinkClick r:id="rId5"/>
              </a:rPr>
              <a:t>ссузов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 по выбранному направлению подготовки (специальности).   </a:t>
            </a: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бщее количество экзаменов - не более 6-ти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 (согласно ФЗ «Об образовании»)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ача заявления на ЕГ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Заявление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на участие в </a:t>
            </a: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1"/>
              </a:rPr>
              <a:t>ЕГЭ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 с указанием </a:t>
            </a: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2"/>
              </a:rPr>
              <a:t>предметов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, которые выпускник собирается сдавать, 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необходимо подать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е позднее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 марта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в своей школе.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за данных выпускников (БД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БД выпускников заполняется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до 7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марта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в субъекте РФ, т.е.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 Республике Татарстан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;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 апреле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формируется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единая БД выпускников РФ.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менения информации для БД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090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ричины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1. </a:t>
            </a:r>
            <a:r>
              <a:rPr b="1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Потеря паспорта: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5c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срочно сообщить в гимназию,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5c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при получении нового паспорта срочно принести ксерокопию документа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уратор ЕГЭ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– Наталья Ивановна Уварова (236-75-12),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зам. диретора по УР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8:50:13Z</dcterms:created>
  <dc:creator>Your User Name</dc:creator>
  <dc:description/>
  <dc:language>en-US</dc:language>
  <cp:lastModifiedBy>Zavuch</cp:lastModifiedBy>
  <cp:lastPrinted>2012-02-27T16:24:38Z</cp:lastPrinted>
  <dcterms:modified xsi:type="dcterms:W3CDTF">2013-02-26T13:44:36Z</dcterms:modified>
  <cp:revision>212</cp:revision>
  <dc:subject/>
  <dc:title>PowerPoint Template</dc:title>
</cp:coreProperties>
</file>